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947-800D-481D-B882-F49FCF6F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FD8-9B14-4688-AAD8-F779438B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A61-49B0-45FB-A2F3-260CD834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C11-2CD5-4592-AC40-35C6AFAF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B136-A536-479D-9DB4-9A6F8CB0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9CA9-098D-4204-9D7C-AFCF9B15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B43A-1E69-4FEC-BEC8-DE834321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B403-408D-4B9D-B79D-063CC805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6D3E-3B0A-4ECB-9627-99354328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F882-03FB-4DDD-96BF-E1E1E5E2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5D46-92CB-415E-920F-FE0C1DC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F0E-2799-4F6C-944D-E5D32DAB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44B6-0DC9-4ADE-A3FA-6CDD1FB1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08F9-0588-4C19-8117-FF458AD0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A79E-B0BF-4A1F-A62E-177B875A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4A85-6026-44C4-8653-922F0C14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5679-78AC-4812-8326-6F243993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D2E-F8DF-4E0E-B91E-49FA6527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80C-627B-48ED-A045-8FD34D27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ACD-2E9E-434C-B7EB-56CAE61F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8E4-9AD8-49BC-8381-75F020A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746-F1C5-481F-B3BF-F0FEF212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72B-DEA5-4DED-A999-D0EDC1E6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30F-D0BD-4927-85A6-4F88EE31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82F2-07E4-4803-946F-63956D59F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0D43-1674-4599-8C92-8176C050F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itannica.com/eb/art-67710/Button-from-John-F-Kennedys-1960-US-presidential-campaign?articleTypeId=1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e/Nixon_while_in_US_Congres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n_F._Kennedy%2C_White_House_color_photo_portrait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 and His New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 Fronti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’s Deat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Kennedy went to Dallas to try and stir up support for his programs, he was assassinated on November 22, 196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he was killed, it seemed as if time stopped in this count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also affected people around the globe specifically allies that Kennedy had made in many third world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President Kennedy with his wife, Jacqueline, and Texas Governor John Connally in the presidential limousine shortly before his assassination"/>
          <p:cNvPicPr/>
          <p:nvPr/>
        </p:nvPicPr>
        <p:blipFill>
          <a:blip r:embed="rId1"/>
          <a:stretch/>
        </p:blipFill>
        <p:spPr>
          <a:xfrm>
            <a:off x="5029200" y="2438280"/>
            <a:ext cx="3657600" cy="292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yndon B. Johns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yndon B. Johnson would take over for Kenned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nly 5 days after Kennedy’s death, Johnson made a speech to the American public saying he would continue on with JFK’s pla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came up with a new term for the new America called the Great Socie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john_k2"/>
          <p:cNvPicPr/>
          <p:nvPr/>
        </p:nvPicPr>
        <p:blipFill>
          <a:blip r:embed="rId1"/>
          <a:stretch/>
        </p:blipFill>
        <p:spPr>
          <a:xfrm>
            <a:off x="5638680" y="2743200"/>
            <a:ext cx="28576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Great Socie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 tried to fight poverty, pollution, unemployment, discrimination, and everything else that was wrong with this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fight poverty and unemployment, Johnson launched the Office of Economic Opport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6" descr="Lyndon B. Johnson"/>
          <p:cNvPicPr/>
          <p:nvPr/>
        </p:nvPicPr>
        <p:blipFill>
          <a:blip r:embed="rId1"/>
          <a:stretch/>
        </p:blipFill>
        <p:spPr>
          <a:xfrm>
            <a:off x="5715000" y="236232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fice of Economic Opportunit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rganization sent workers to poor neighborhoods to help people get back on their f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b Corps, Project Head Start, and the Elementary and Secondary Education Act were all examples of Johnson’s war on pov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re Johnson Progra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son passed the Medicare Act through Con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 responded to immigration by passing the Immigration Act which allowed more people from the far east and deleted the national quota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overnment Spend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n with all the good things Johnson was attempting to do, his government spending was out of h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Vietnam War was part of the problem because it was eating up $20 billion a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6" descr="300px-Saigon_T-54"/>
          <p:cNvPicPr/>
          <p:nvPr/>
        </p:nvPicPr>
        <p:blipFill>
          <a:blip r:embed="rId1"/>
          <a:stretch/>
        </p:blipFill>
        <p:spPr>
          <a:xfrm>
            <a:off x="5334120" y="2666880"/>
            <a:ext cx="3581280" cy="242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960’s: An Importan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ring Johnson presidency, the American public had become deeply divi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had seen the emergence of the youth during this time, but we also saw three of the most important young people killed (JFK, Martin Luther King Jr., and Robert Kenned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 would continue into Nixon’s presidenc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Election of 1960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ichard Milhouse Nixon ran against John F. Kenned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se two candidates were about as different as any two people could b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8" descr="Photograph:Button from John F. Kennedy's 1960 U.S. presidential campaig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666880"/>
            <a:ext cx="2667240" cy="263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ichard Nix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ixon was a young candi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came from a poor fami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lieved communism was America’s worst enem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ixon was a very good radio debater, but people who watched the debates on T.V. thought Kennedy won because he was attracti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6" descr="Image:Nixon while in US Congre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38280"/>
            <a:ext cx="237816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ohn F. Kenned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very young candi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me from a very rich fami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lieved communism was America’s worst enem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od television speaker and due to his good looks many believed he would win the el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ennedy won the election by one of the smallest margins in histo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6" descr="98px-John_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2743200"/>
            <a:ext cx="211608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’s “New Frontier”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as an extension of FDR’s New Deal and Truman’s Fair D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nnedy will quickly be at odds with business leaders in the United States, especially in ste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James Meredith escorted by soldiers"/>
          <p:cNvPicPr/>
          <p:nvPr/>
        </p:nvPicPr>
        <p:blipFill>
          <a:blip r:embed="rId1"/>
          <a:stretch/>
        </p:blipFill>
        <p:spPr>
          <a:xfrm>
            <a:off x="6095880" y="2743200"/>
            <a:ext cx="245916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 and Ste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nnedy told steel companies to hold down prices to allow economic growth, but they didn’t lis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 threatened them by saying the US would buy foreign steel and sent the Justice Department to investigate their business pract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The U.S. Steel Tower in downtown Pittsburgh."/>
          <p:cNvPicPr/>
          <p:nvPr/>
        </p:nvPicPr>
        <p:blipFill>
          <a:blip r:embed="rId1"/>
          <a:stretch/>
        </p:blipFill>
        <p:spPr>
          <a:xfrm>
            <a:off x="6019920" y="228600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ther “New Frontier” Ide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ennedy went to work on funding public schools by passing new bil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tried fighting poverty in the South and in big 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supported the Area Development Act which encouraged businesses to move into economically depressed 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Housing Act asked for $5 billion for urban renew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144px-John_F"/>
          <p:cNvPicPr/>
          <p:nvPr/>
        </p:nvPicPr>
        <p:blipFill>
          <a:blip r:embed="rId1"/>
          <a:stretch/>
        </p:blipFill>
        <p:spPr>
          <a:xfrm>
            <a:off x="5867280" y="2514600"/>
            <a:ext cx="220500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AS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of Kennedy’s biggest accomplishments was the National Aeronautics and Space Administration (NAS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of this reason was to compete with the Soviets in the Cold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6" descr="Space Shuttle with payload bay doors open."/>
          <p:cNvPicPr/>
          <p:nvPr/>
        </p:nvPicPr>
        <p:blipFill>
          <a:blip r:embed="rId1"/>
          <a:stretch/>
        </p:blipFill>
        <p:spPr>
          <a:xfrm>
            <a:off x="5715000" y="2971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 at Od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nnedy was frequently at odds with the legislative bran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thern senators and representatives blocked many of the measures that he tried to pass partly because he was for civil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6" descr="kingkennedy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262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5:09:51Z</dcterms:created>
  <dc:creator>Erica Beaule</dc:creator>
  <dc:description/>
  <cp:keywords/>
  <dc:language>en-US</dc:language>
  <cp:lastModifiedBy>Sacerdote, Kevin R.</cp:lastModifiedBy>
  <dcterms:modified xsi:type="dcterms:W3CDTF">2016-02-26T13:55:21Z</dcterms:modified>
  <cp:revision>5</cp:revision>
  <dc:subject/>
  <dc:title>PowerPoint Presentation  -  Kennedy and His New Frontier</dc:title>
</cp:coreProperties>
</file>